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335-E7F5-433D-8842-7940BE82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A42-9810-4335-9241-07D8B2E0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CAA0F-8E89-4FE8-8B6E-D3505870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490CA-7BD4-43A8-90D2-8CA1A69B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1E588-D8C1-4335-B848-E3325618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E9D38-BCE0-45D6-AE50-27331FF7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E65A8-845A-4BB8-93F0-09DEB63C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22780-707C-4497-A4DB-CE24F364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0B209-99DF-45EA-8752-BA947D79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3570E-AE33-4CCE-AB86-49C52167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AC2A8-0E15-4845-A9CB-87E50E8B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71278-3977-43A1-8886-360381EF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BD6-1B66-4D2B-87C6-DD791D82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BBCFA-E891-4311-A17B-6E796FC1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A0169-9A91-40F0-80BE-5475B7DD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92FA4-5A90-4A9E-B998-F30E0DFE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53164-96C3-4BA8-8993-A54B0BD3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F5B44-0DEB-4FF5-A5D0-DB19AA24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A1798-1195-4AF9-8734-448EE76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B480A-2AC1-4178-AF5C-85C25156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86539-BFC8-4EAF-BD1B-B1D21D39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8EADD-32A5-4F47-B39A-726F38A1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54E0A-AD50-4725-92DA-7A77DDCD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987-77DB-438A-A36D-9CE45F88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E6A4D-1090-4738-9EF4-3F083DBE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C6C0C-F85E-4645-83E5-D2D431D8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8FCBE-2BCA-4E53-9F63-91369A68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E104A-3202-4F4B-BBC9-048C1EC5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A0F3F-098C-4C3B-939A-6D82F949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38394-B43A-4028-A188-A2689BEE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6749A-9A5E-44CB-88A2-84F96E8B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BC3D3-34A5-400E-B7F8-693CDAA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D02EB-F73F-4530-B493-63D800C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E5D11-8018-47B1-874E-6479A3AC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72C6-A963-41A1-B4FA-D78E9B9F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8B5C6-0553-49D7-8E87-292593C1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E9362-EF12-4C4C-8895-A96A5A11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CFBE9-D275-49B5-B2FE-9346D35E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646B0-97A1-402E-B53B-431C449D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7B9C4-B548-463C-AB94-BAF00A13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A8CB9-F1B0-4FFB-A2A5-C521C0E3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ECACA-F399-43A9-A40E-F85D155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95DCA-7870-4D34-98ED-33147A8C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2DA22-490E-4C50-8D60-B3BBE372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E5735-71E8-4206-AF76-BE40112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4DF8-D2E7-4D1B-A712-9D74131C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B9CA3-49F5-4388-85B8-F8CE2955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7D390-0E99-4DB7-A2A7-7DD9177E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2F65B-3F20-4477-8469-2C079F43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FFE04-F96F-4E9C-A396-94FA717C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98366-12CB-4C8D-99F0-3F1BE109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890EB-0625-4347-A309-27BB8E4D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2ADD4-1648-4746-A492-ED9BB706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74E10-7ABC-49A4-9BBC-C7007A25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E1FB4-4E18-4C61-9EF2-B761BF0B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728D5-6DE5-4DDF-B2C9-2803690C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0313-FCCE-4CB9-BF54-D8D2AD90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9FBD5-BB30-4994-BA86-E3C5387F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C63FA-9684-4A23-A99D-1636202B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13502-6B19-48A6-BF98-DFDF533E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5B9DC-FC7E-4E2B-AD9A-59EE0480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5DCF0-FAAD-411A-A225-6F05D81E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5B1AA-CCEF-4D3B-BEA5-D238AFCF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B83B2-729D-4FF8-A832-109D842E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C4835-D879-4333-8388-C636F0E1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955CA-DF56-4DC2-9986-75F239EF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239AB-E9C8-48CE-9612-35C14AEB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4337-C547-44BB-9D08-AAF96675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C2958E-AF18-45EC-AA69-D7EC4AEB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A5C53-6CDF-4377-895A-F808CBA7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C7EBBB-042E-4B87-A397-21F412A3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41564-38E0-451A-812A-192156FE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1AFC29-F0A6-405B-A8E4-354FDAFA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DB5E1-60C9-479E-A73A-3AD47D52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97D95-D642-41C7-8286-C6088101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DA726-A918-4ECF-945C-7106A1CF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9E7C0-0CA8-4308-A42E-5C8CDADE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6D1686-C3FE-4ABB-BB0B-F5DCC3F3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382A-E494-4306-9DBD-044E344E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939B3-199B-4E9C-88A5-ED4A129F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04819-E236-4461-8474-D679EB76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BEAFB-1DC2-408C-A394-41708304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D5318-ED73-43E6-B7DA-2813E6E6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891D7-B948-4481-85CF-25B8E203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38DE14-400C-47A5-8B8F-D2B5367B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53857-3B18-4A15-9203-B4AC33F6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6CC10A-2438-48C8-A0CD-F45D0484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D6752-8A49-40BD-92E7-E6C186DC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BAD95-9A6A-495D-9050-B304A946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77AB-C66C-4B61-84E8-5E341651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52366-6D9A-49BF-B4F3-6037D820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AD3C4-30E9-4058-AF43-C8CA6329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87200-C501-41E5-9021-6B71BC66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BE716-1F5D-42A6-8681-3051CF78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345487-E07F-40EE-BC1B-4603D9EC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D1C75-D4A7-4621-BC37-4E3AF5B8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99D105-51D9-43B4-B4F8-7A7ADCE3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D67C1-0726-4F1B-8B55-7C9310E9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640EE-F031-4C8F-B35B-00969361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04B5B-75E2-4C29-B3D7-9E65042F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918B-5E7A-4FD9-AE15-11467FE5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EFCA4-92E3-4079-83EF-E1633CCD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B05B3-6197-4A2B-A0D4-3C197746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4DB0C-9159-47C9-994E-E4ACF746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22E0A5-F95C-41E8-9075-4AA6BBF5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F10A3D-3FC7-4485-85E1-D375E974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CBBC4-3870-4352-BB04-46A795BF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23900-BBB8-4CCD-A7B2-2209D307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C7F3F-07B5-4F46-B280-DE4D8453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D4C043-005A-45F9-806D-029CF609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8958DC-67E0-4069-BB8F-41D777E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89E-B87D-4EBA-A7AF-C240023E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DCA7-1A50-4413-9758-7781BB80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5E1FE-A1EE-4A78-89FE-3ED4943C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8AE724-E3EC-4A41-8CEE-0641793B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3797E-0BA4-4405-97B3-F10E5EDB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FB854-CC56-4F42-A56E-353E749F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18908-EAF7-498F-8CE1-E848C14C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AA9AF5-2F56-4811-A76B-124D5A64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3F512C-FC7B-4F04-B86B-E240DD41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121BE-8691-4160-902C-A4AEB91F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BDD774-05F1-4789-A389-FD44B40A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F2C8B-DC7E-4944-95EE-DD3C3CD3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A254-5C07-4361-AF3D-D81A94AC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008467-D930-45C5-9AAE-5A95A868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4AB28-7667-4669-8FB0-42FB674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746E39-032C-4A9E-B6B6-EF7E092E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B2F5AA-059C-4521-9CF3-D06E438E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6CB19-5F02-49DC-88F7-5AAF5D2B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6371CC-7C25-4A49-A290-6E4FC40D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300F45-E0D9-4EEE-95BB-AC4D1C59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33384B-70F3-45C7-850B-7A0490B4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26FED3-8D29-4E88-BE60-EAFD5894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D6ACEC-75F7-4FB5-8E53-4209870A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3DE6-A711-452A-93A4-490A2C81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8233B8-04FB-401B-AE82-120A619D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0018C7-4EB9-44EC-81F4-7A550AE0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43CB61-7E16-4929-A4C5-6EBFD4E9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6E849-FDAC-4D16-8DA6-FFC26425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385440-6A9A-41E0-937A-DDB0E1FE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21414E-432C-4BFA-BF48-3DDE62B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7709D2-EEC2-4EF2-AB2A-38209D70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B88D8F-9ABA-465D-9F42-F016E39A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7BE29B-AFA7-422C-9561-7EE5FA8E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B5CB55-5199-43CE-AF45-3A64716A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B62E-13E2-4E64-B731-6AB240A3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37483-19DD-4C49-986C-278EB4B9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8E7284-51BA-4689-86B9-D7E9C80F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8A6C9-F688-499C-83B4-CC0546C3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61311-5470-4DFE-B3B5-1E557D03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5EA24C-2DCC-46B0-B244-2DEFE02E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10570A-B84B-47EB-994F-270E224A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1B21F2-3F12-407E-89BB-2321A6A4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CF05EA-A5DF-49E6-A432-8B3BA74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CBDEB-CB7E-4245-9388-2B95C235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FE8477-2C4E-4742-BE37-7DF24E77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BAC8-AF46-480C-A4E7-AB96D790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9970E-52A1-4B38-8308-199CFF84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8FF17F-3EEC-48D1-AAE9-4741D116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53B50A-07D1-4A31-BC3E-C1F7F1DC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3DCEF-C21E-4F3F-BFDE-69C8E126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1EA72-1B99-4D5B-88A0-3EBC5BFE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7EAE62-F2F7-43B5-8142-E7C243DD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A22D30-A348-4145-92BE-DA2AE661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4DC3A7-7DD2-4EA6-AFF9-E8921AB5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AC604A-CF67-4328-BBC5-4326D9E6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A28AB7-A9BF-4513-85A2-CE6BB646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0AF06-8608-49C3-8545-11C6220E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E9D97F-7337-4C0D-B8BB-D385085D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E9EF71-951B-4697-8CAA-8AAD16D9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DB8C1-3DCB-444B-A40C-17B4BE8F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2BA0C-6CD1-442A-A37E-FA30D9FF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14984-44F7-4DB9-85FB-79DC2447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5FFB2-2C39-45F0-8432-E3F2B2E7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AFECE-D4EA-4243-B9CC-00D15307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90D-A1B4-42A8-A843-7414950E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B7B0-1563-4D93-AB7B-B185909C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85DC-06AE-4CF4-8F03-8F4C48A5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3ACF-459E-4EAE-BBF3-F4B61D55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7B01B-F53C-4D34-9BFC-FD69751F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5DC4A-E15F-4D7A-ACD2-D22A4667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4C412-E261-40E5-99BC-22A3BF1E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D382D-B53B-45DF-9BB4-32A1DF99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3203F-E1BC-4678-843A-764610D5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48B03-9A77-4450-95A9-8DD85C71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0B03-1C6E-4180-85E8-A1498B8A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1A1-0BBA-473D-96DE-EE7EF12E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57336-441D-42CD-B854-C0F69BA8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8410C-AEA3-4B3C-A95E-2ACCC271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7CE10-6FA2-4A93-95E5-9FE694E5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A651-5C52-4429-B300-3F61D2F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57CA-8DB6-41E8-BB86-698FDD4E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1DF4-DA78-4C71-AE06-2CFC36F4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87A5B-F897-493E-A016-B5005D2B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3B84B-EF9B-4A78-9BE5-9E68DFDA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D2A3A-93BB-42BB-BE55-90AACA02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0CE10-2CD4-4429-9C06-E8B522F1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6D0-C656-4867-9EEB-0684BFCD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B3292-AF74-46D0-828B-68C266E2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6BE81-2966-489B-BDCC-BED2E776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0A368-68F6-48CE-8689-0B44668A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665DE-BA24-45E6-9404-E00F2BC9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C3B3E-4578-4138-B398-87DC1F13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EC459-3336-4217-B342-FC39D687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DF1F9-36D3-44B0-BC9D-25837F94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4F20A-A27F-4258-BD2F-CC100551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68388-182F-4225-AA35-0778D6EC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F7BB7-6A4D-4478-8949-0CE8B079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C70-0548-4B42-BDAB-70CD988F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91C26-B51C-4DB7-B70A-09CB567F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C1C99-58F9-4B12-A3AE-0C06DFEF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2B55A-D6B9-4392-9877-57ED5E86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50E9A-7686-4875-95A4-FF4749E6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689D8-3010-4A9A-8E81-66970B89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E8518-F6F3-4E3A-92E6-F8C47A96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1B8D5-D77D-4330-BE05-883E7025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E9274-BAA7-401F-9468-5B223C28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2F5DF-0739-4591-AC7F-68F60783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A3ECA-18D4-4854-9D07-025C9423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2EF-DE46-4738-86B3-61C05CCE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8BD86-955F-45A7-A96E-94A56899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25ED5-FA16-4967-9B43-144E3B8D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EF467-39E0-445E-838D-BFEC6BDE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9CB3D-1CEC-4955-AD99-2D0FCE8B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A5CEF-241B-416E-97CE-E2559D44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99572-C0FB-43B0-B09A-DCBC5F1C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48A82-63E9-440F-9459-18D6BDD8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4DD41-53DE-4378-A0E5-E7768177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2DF97-7263-42AE-8BFC-DCBC9219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9AD41-4BEF-4C32-9EEF-2BECEA60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F35-6221-4514-90CE-ED96B4D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48C4-087D-40FB-993D-EF6D2673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22EAD-E195-4155-8ECD-05D9FE2E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71DE3-CD08-4962-B71B-070974A9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C72E6-DD52-4D4A-B7F4-65A7ABB8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33C23-F409-42FD-BDAB-AD29D3FB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34A5E-C396-46B7-B790-E1B0EE62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A30C5-06D7-4579-B8AD-74C99453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D2139-FB94-4F1D-AE1E-F57C916B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3D8E9-A5D7-413B-9CEA-48FFDDC4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6C665-9D3A-4CD8-A4BC-9C1C525F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C19-4732-4435-A162-1D68977A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4C378-28E6-4574-B5A2-69A9F6D5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F1CDA-3D1A-4019-AD4C-5CA13B8B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7912E-BDC2-46C4-8165-CD5666ED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881C8-A36C-44E2-9568-2F42E156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52791-BECC-4A65-8B84-AD76BEC5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A1649-FB54-46FA-8FCC-242B02A9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BFB98-E3C3-4892-A577-ABC82C51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60F52-FA62-4569-A523-42C4486F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9E42D-4D3F-460E-A82B-8B270A10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BDB26-B589-4924-BA08-D70310BB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DE07-A881-4B54-8B24-BC0E67266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C969-972F-4703-A26E-F0A78893DE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C9C7-122A-4A74-84BC-66A66AA2D5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0BBE-2961-48BE-9460-FE447355E0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C38E-721D-4B86-9DBF-E6C916D395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7B38-60EE-4F42-ACD6-89CE59F208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DA80-5CB5-42CA-AD5E-B9CE45E6FF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EFE4-5FE5-40D6-BA24-84DE87C3B3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ED81-6B6E-4E99-B4B8-8CD12E1B0C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2701-919F-445C-BD9F-D411A6AE5B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3C98-07B2-4CB0-ADE3-89E79DD206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4DC2-4E2D-4996-9112-6194DC699B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938B-AB05-4511-8BFA-A26384BEE9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E11E-F038-414D-BBAD-927867ED07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814C-99D2-4DEA-9281-BFCEF5A341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2C8C-DE1F-4B29-822F-D7E8A3BE9B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D98C-5E94-4860-959D-5EC1828A39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7E52-B087-40F6-9F7F-8AD0A53574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53EC-A7A6-4C51-87F5-D4DA042F27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3963-173B-4638-8C83-A1503F6949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642E-2E2E-4357-A7F0-02B59F531C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3168-B093-435E-A013-3E069D9EF0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A9CA-3A5B-4026-A8A7-C56B33DEEA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8731-5909-4685-BBB9-4720D08A1F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C3CB-0409-491D-8446-05CD45A11A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0C2F-8CA8-4962-9A0C-4406B256A6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0B35-3975-4943-B995-525C0854A6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C4B1-33D1-40E1-BCBD-FBC78A9D2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76F8-23FB-4DC1-9312-CC54ED9DDA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1207-3476-4A0A-B3CD-B6251E3228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528A-761C-45BE-B522-ED083CEEC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E6EA-2659-4589-BD63-47185D67EB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441D-FB64-443D-AE87-C31FA23044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1034-D118-4DCC-803C-032155AABA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7430-1DB9-430A-84CC-5F0212BFBD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195F-151E-4A7E-864F-2C8AED0100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70BF-8739-4B40-83D6-B8F77B1BAA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6365-4E87-49F9-8A83-FCC34F6E6C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5149-9F33-418F-B6E4-518FF3E92E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D921-FA84-4BAE-B17B-B614AFB843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162560" cy="10573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2" descr=""/>
          <p:cNvPicPr/>
          <p:nvPr/>
        </p:nvPicPr>
        <p:blipFill>
          <a:blip r:embed="rId2"/>
          <a:stretch/>
        </p:blipFill>
        <p:spPr>
          <a:xfrm>
            <a:off x="2728800" y="2914560"/>
            <a:ext cx="36864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1109520" y="3067200"/>
            <a:ext cx="692496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452520" y="762120"/>
            <a:ext cx="8238960" cy="533376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00080" y="23572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00080" y="42148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325000" cy="3886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2" descr=""/>
          <p:cNvPicPr/>
          <p:nvPr/>
        </p:nvPicPr>
        <p:blipFill>
          <a:blip r:embed="rId2"/>
          <a:stretch/>
        </p:blipFill>
        <p:spPr>
          <a:xfrm>
            <a:off x="714240" y="4714920"/>
            <a:ext cx="7877160" cy="1866960"/>
          </a:xfrm>
          <a:prstGeom prst="rect">
            <a:avLst/>
          </a:prstGeom>
          <a:ln w="0">
            <a:noFill/>
          </a:ln>
        </p:spPr>
      </p:pic>
      <p:sp>
        <p:nvSpPr>
          <p:cNvPr id="1030" name="矩形 3"/>
          <p:cNvSpPr/>
          <p:nvPr/>
        </p:nvSpPr>
        <p:spPr>
          <a:xfrm>
            <a:off x="1000080" y="85716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1071720" y="271476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5"/>
          <p:cNvSpPr/>
          <p:nvPr/>
        </p:nvSpPr>
        <p:spPr>
          <a:xfrm>
            <a:off x="1000080" y="51436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495360" y="1023840"/>
            <a:ext cx="8153280" cy="4810320"/>
          </a:xfrm>
          <a:prstGeom prst="rect">
            <a:avLst/>
          </a:prstGeom>
          <a:ln w="0">
            <a:noFill/>
          </a:ln>
        </p:spPr>
      </p:pic>
      <p:sp>
        <p:nvSpPr>
          <p:cNvPr id="1034" name="矩形 2"/>
          <p:cNvSpPr/>
          <p:nvPr/>
        </p:nvSpPr>
        <p:spPr>
          <a:xfrm>
            <a:off x="2786040" y="1571760"/>
            <a:ext cx="1643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3"/>
          <p:cNvSpPr/>
          <p:nvPr/>
        </p:nvSpPr>
        <p:spPr>
          <a:xfrm>
            <a:off x="2714760" y="2500200"/>
            <a:ext cx="157140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4"/>
          <p:cNvSpPr/>
          <p:nvPr/>
        </p:nvSpPr>
        <p:spPr>
          <a:xfrm>
            <a:off x="2217600" y="3929040"/>
            <a:ext cx="121140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5"/>
          <p:cNvSpPr/>
          <p:nvPr/>
        </p:nvSpPr>
        <p:spPr>
          <a:xfrm>
            <a:off x="3643200" y="442908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6"/>
          <p:cNvSpPr/>
          <p:nvPr/>
        </p:nvSpPr>
        <p:spPr>
          <a:xfrm>
            <a:off x="1285920" y="4857840"/>
            <a:ext cx="1428840" cy="399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7"/>
          <p:cNvSpPr/>
          <p:nvPr/>
        </p:nvSpPr>
        <p:spPr>
          <a:xfrm>
            <a:off x="2357280" y="5357880"/>
            <a:ext cx="1000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476280" y="852480"/>
            <a:ext cx="8191440" cy="5153040"/>
          </a:xfrm>
          <a:prstGeom prst="rect">
            <a:avLst/>
          </a:prstGeom>
          <a:ln w="0">
            <a:noFill/>
          </a:ln>
        </p:spPr>
      </p:pic>
      <p:sp>
        <p:nvSpPr>
          <p:cNvPr id="1041" name="矩形 2"/>
          <p:cNvSpPr/>
          <p:nvPr/>
        </p:nvSpPr>
        <p:spPr>
          <a:xfrm>
            <a:off x="3714840" y="1285920"/>
            <a:ext cx="1285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3"/>
          <p:cNvSpPr/>
          <p:nvPr/>
        </p:nvSpPr>
        <p:spPr>
          <a:xfrm>
            <a:off x="1143000" y="2714760"/>
            <a:ext cx="12142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4"/>
          <p:cNvSpPr/>
          <p:nvPr/>
        </p:nvSpPr>
        <p:spPr>
          <a:xfrm>
            <a:off x="2760840" y="317808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"/>
          <p:cNvSpPr/>
          <p:nvPr/>
        </p:nvSpPr>
        <p:spPr>
          <a:xfrm>
            <a:off x="5857920" y="4143240"/>
            <a:ext cx="1285920" cy="382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7358040" y="507204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28760" y="709560"/>
            <a:ext cx="8286480" cy="543888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2928960" y="2857680"/>
            <a:ext cx="5715000" cy="399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1249200" y="3392640"/>
            <a:ext cx="7394760" cy="328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1214280" y="3857760"/>
            <a:ext cx="2571840" cy="349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"/>
          <p:cNvSpPr/>
          <p:nvPr/>
        </p:nvSpPr>
        <p:spPr>
          <a:xfrm>
            <a:off x="1749600" y="4786200"/>
            <a:ext cx="510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461880" y="1604880"/>
            <a:ext cx="8220240" cy="364824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1771560" y="1677960"/>
            <a:ext cx="5823000" cy="344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2906640" y="2611440"/>
            <a:ext cx="4929120" cy="349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2214720" y="4500720"/>
            <a:ext cx="5643360" cy="37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8:4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